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0F6-4373-48F3-A3DD-4D7047A5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B7B-0880-426E-88BC-5050C786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C9D-809B-4418-A86D-F93167F9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0C1-BC8C-4FB2-9429-82CE00C2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A2A-93E0-4FF0-A8E7-7D1AFC0F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6DB5-134D-4F1D-BC10-889DF66E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9BBB-8351-4A02-A88B-A0BB388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B169-8252-4B08-ABB9-23D4E8E8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4A8-7346-4D8C-B077-A6D5F94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F313-75F0-46A7-BFFE-46C18E87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8E18-7492-44DF-8FA6-836B714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A88-9945-4923-8E5D-F6DB731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9E9F-BA3E-429E-BE1E-A75CE36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F06-4AF4-48DC-B905-F3F9D31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9CF3-C46E-49F1-AF39-42D896C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3E7-0426-4515-B5C6-4C477102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F127-4F88-4FFB-A738-75080F6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A93-C1BA-40A2-A5E0-D90E6B7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BBF-0A6F-4F53-889B-A3F35F88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120-465E-4127-A340-BB97D5DB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3C7-7AD7-4951-AEDC-0700F070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82B-FB6B-4F6F-965D-F17DBA3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E8F-3A66-4E7C-BF83-F486D04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2A5-A1F1-4239-8D27-5D36B46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DC8C-A915-47E1-9D5E-EBEA9E9FB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2ED-86B1-4E7F-B7D2-B6ABD6614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SYRIA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09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LAND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o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rian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phrates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5575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CONOM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electric Power – Turke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089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PEOPL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ou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 Dwel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ppo -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scus -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872240" cy="3246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2325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HISTO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uling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56084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6:15:57Z</dcterms:created>
  <dc:creator>Joe Dirt</dc:creator>
  <dc:description/>
  <dc:language>en-US</dc:language>
  <cp:lastModifiedBy>Joe Dirt</cp:lastModifiedBy>
  <dcterms:modified xsi:type="dcterms:W3CDTF">2008-01-07T20:48:56Z</dcterms:modified>
  <cp:revision>3</cp:revision>
  <dc:subject/>
  <dc:title>SYRIA</dc:title>
</cp:coreProperties>
</file>